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8A5-B0F6-4909-B803-A5A51EB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0FF-A5E5-4A25-BF65-58F2A44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05A-D07E-411C-BB93-B5C0D975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73A-7331-49F7-92C2-5A698DBE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1FDA-B762-4890-8783-24EE9B91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C8F-589B-4B3B-B16D-2D8C1D9B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55C-A986-46D2-A7BF-B377FF15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739B-13F5-4F48-8CEB-8A8D036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066-205E-4AC4-A24F-573875D3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E47-6765-4848-A776-8AD64E7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B122-1052-497D-8889-744D42A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618-03B2-4636-945B-A01DB73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52E-CBCD-4254-8277-7BB132B8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8522-F088-4184-8422-0BAFDAB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A290-6632-495D-814D-A50964C6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F3AF-96A6-47F3-ACE0-0F43525D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7EF6-B107-4DC9-9805-C0C614F1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1DE-1A95-4CB1-BA55-0E68AE9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F38-45AF-418F-A5C5-806764F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A79-B677-4B1D-B4BB-23E3F5F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B9C-6C12-4AE2-B760-23893BF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125-D572-4862-98CE-073E399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50E-EB47-48D7-B210-1F57297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DBE-17B5-4C36-A824-2E48365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D96-5901-446B-AC60-6DA00820F1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D48A-B171-4471-9B9B-6BBE565842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oshua 13-19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3, 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gs.36-4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Days of The Jud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8686800" cy="663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1371600"/>
            <a:ext cx="1524240" cy="3657600"/>
          </a:xfrm>
          <a:prstGeom prst="ellipse">
            <a:avLst/>
          </a:prstGeom>
          <a:gradFill rotWithShape="0">
            <a:gsLst>
              <a:gs pos="0">
                <a:srgbClr val="175e5e">
                  <a:alpha val="0"/>
                </a:srgbClr>
              </a:gs>
              <a:gs pos="100000">
                <a:srgbClr val="33cccc">
                  <a:alpha val="0"/>
                </a:srgbClr>
              </a:gs>
            </a:gsLst>
            <a:lin ang="135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553080" y="1523880"/>
            <a:ext cx="15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e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d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6512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334120" y="1600200"/>
            <a:ext cx="33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Divi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he 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cording 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ibal Siz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400" y="2895480"/>
            <a:ext cx="3276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14800" y="1169640"/>
            <a:ext cx="4495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vision of the Land of Canaan (13:7 to 24:33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. Possession of the land East of Jordan (13:7-33) 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Total territory East of Jordan (13:7-14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Portion divided to Reuben (13:15-23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Portion divided to Gad (13:24-28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Portion divided to the half tribe of Manasseh (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86200" cy="543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1828800"/>
            <a:ext cx="914400" cy="3733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191120" y="999720"/>
            <a:ext cx="4495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session West of the Jordan (14:1 to 19:51) 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Levites given no land, save cities to live in (14:1-5) See Joshua 18: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Division to Judah and Caleb (14:6 to 15:63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 Inheritance of Joseph (Manasseh and Ephraim (16:1 to 17:18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. Israel moves to Shiloh and set up the tabernacle (18:1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. Twenty-one men, three from each tribe, describe the land (18:2-9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. Land divided by lot among the remaining seven tribes (18:10 to 19:48) 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86200" cy="543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1219320"/>
            <a:ext cx="1371600" cy="41907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371600" y="533520"/>
            <a:ext cx="644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rthern Most City of 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971800" y="228600"/>
            <a:ext cx="1200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ilo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9320" y="5257800"/>
            <a:ext cx="4486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in Campgrou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aberna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57200"/>
            <a:ext cx="2210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n the whole congregation of the sons of Israel assembled themselves at Shiloh, and set up the tent of meeting there; and the land was subdued before them. (Joshua 18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380880"/>
          <a:ext cx="8610480" cy="6172200"/>
        </p:xfrm>
        <a:graphic>
          <a:graphicData uri="http://schemas.openxmlformats.org/drawingml/2006/table">
            <a:tbl>
              <a:tblPr/>
              <a:tblGrid>
                <a:gridCol w="947520"/>
                <a:gridCol w="3014640"/>
                <a:gridCol w="2581560"/>
                <a:gridCol w="2066760"/>
              </a:tblGrid>
              <a:tr h="914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ritannic"/>
                          <a:ea typeface="Times New Roman"/>
                        </a:rPr>
                        <a:t>The Distribution of the L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Desdemona"/>
                          <a:ea typeface="Times New Roman"/>
                        </a:rPr>
                        <a:t>Special Allot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o &amp; a half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e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atura MT Script Capitals"/>
                          <a:ea typeface="Times New Roman"/>
                        </a:rPr>
                        <a:t>We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cccc"/>
                          </a:solidFill>
                          <a:latin typeface="Desdemona"/>
                          <a:ea typeface="Times New Roman"/>
                        </a:rPr>
                        <a:t>Major Allotments to the 9 ½ Tri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Sons of Josep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maining 7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ies of Refu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Desdemona"/>
                          <a:ea typeface="Times New Roman"/>
                        </a:rPr>
                        <a:t>Special Provis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Sides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mary Stat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267080" y="129528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124080"/>
            <a:ext cx="0" cy="16765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8769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715000" y="228600"/>
            <a:ext cx="2990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5880" y="3124080"/>
            <a:ext cx="2314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0:49Z</dcterms:created>
  <dc:creator>Terry W. Benton</dc:creator>
  <dc:description/>
  <dc:language>en-US</dc:language>
  <cp:lastModifiedBy>Terry W. Benton</cp:lastModifiedBy>
  <dcterms:modified xsi:type="dcterms:W3CDTF">2005-01-11T18:52:02Z</dcterms:modified>
  <cp:revision>6</cp:revision>
  <dc:subject/>
  <dc:title>Joshua 13-19 </dc:title>
</cp:coreProperties>
</file>